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EC58-D654-4496-8380-B9601807A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2E4F-6CE6-4534-8CAF-2DE85D75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E92E-DA6A-4E75-932F-9D91F8F48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3067-0588-4654-8728-672CD12CA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0862-0CAF-4C0F-B897-F5987FE8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71B5-69BD-4086-99BD-23C9FC79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E013-1056-4E7D-8F29-B506A32E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0BFF-0382-4B15-90CC-146703AF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13FE-57B9-4C23-A1A5-6EA4B05C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4523-30CF-443D-82FB-068A541A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E70D-C6C1-4F62-8EFB-B405FE7A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6538-8484-42A5-95ED-F1ECA89C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2342-3944-404E-946C-9AE232161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2209680"/>
            <a:ext cx="83822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2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perties of Linear Fun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834400" cy="4630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1600200"/>
            <a:ext cx="129564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4191120"/>
            <a:ext cx="1219320" cy="533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50292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81480" y="502920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676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81280" y="4267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5029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29200" y="5029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1522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pply the missing words or phr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781440" y="3083040"/>
            <a:ext cx="2819520" cy="431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6320" y="1143000"/>
            <a:ext cx="8951760" cy="4630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2362320"/>
            <a:ext cx="129528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286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1522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pply the missing words or phr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2666880"/>
            <a:ext cx="129564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9528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4280" y="4343400"/>
            <a:ext cx="129564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5288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26971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e of chang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2286000"/>
            <a:ext cx="10666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2209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1760" y="1200240"/>
            <a:ext cx="8935920" cy="15429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457200" y="2057400"/>
            <a:ext cx="91440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981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1522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3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pply the missing words or phr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0" y="2057400"/>
            <a:ext cx="9907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86600" y="1981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95680" y="2362320"/>
            <a:ext cx="91440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2286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752480"/>
            <a:ext cx="68580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21:58:52Z</dcterms:created>
  <dc:creator>Harry S. Mills</dc:creator>
  <dc:description/>
  <dc:language>en-US</dc:language>
  <cp:lastModifiedBy>Harry S. Mills</cp:lastModifiedBy>
  <dcterms:modified xsi:type="dcterms:W3CDTF">2008-01-21T04:13:29Z</dcterms:modified>
  <cp:revision>4</cp:revision>
  <dc:subject/>
  <dc:title>Slide 1</dc:title>
</cp:coreProperties>
</file>